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C8E-2639-4252-A5B6-21AB1C2D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C83-79E6-480F-9277-66A0470F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6AD-1BE6-4202-9C08-278BFD65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C8B-1797-4652-B77D-30B1AD48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1967-6623-4E3C-A9CF-C5F57B76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A7EA-6CE7-4DDA-996B-108CFFD5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7308-5FAE-4F7A-B96C-680B99F4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FE72-07CB-4604-BA92-AE314D58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0DCA-17B1-429A-8985-17C21A2C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9CB6-BBB2-4491-860F-9E471169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A7A8-5C34-45D6-822D-996F2389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8FB-9C57-478C-A888-16B39350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34F7-1ADF-4944-9E11-CEB19A4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7C3D-7961-4107-9635-FF93574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7577-062F-484D-9981-3EAC0B7C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C491-F165-4DAD-81DD-73F25788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2CDF-9262-4EFE-9322-873ABB1F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481-253B-476E-BD13-6E960812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987-9547-4B3C-9B51-E57D2CED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7EB-6E57-4A0A-9DD0-B2C4C6B0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1C4-E219-4215-B37F-CD65EDDE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707-F9D7-4632-9A07-D123A9A5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42A-FD55-4591-A9AC-305D76FA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227-81CD-412C-A850-2DF8ED54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CC1C-2D33-47E5-8B90-FC0BFF8CB2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CFA3-36A2-4326-B572-C8D3350248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рибы- отдельное царство организм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чем сходство грибов с животным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ичие хитинового пок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пас питатель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 питания гетеротроф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ервный питательный углевод- гликог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аются готовыми питательными веществ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ечным продуктом метаболизма азота является мочев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чем сходство грибов с растениям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ст в течении всей 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течении жизни не подвиж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размножения – споры и гриб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ХИЩНЫЕ ГРИБ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ы ли грибы выслеживать, поджидать в засаде, ус­траивать ловушки? Учёные давно уже обнаруживали под микроскопом на грибнице некоторых почвенных грибов странные кольца неясного назначения. В 1888 г. немецкий учёный Цопф установил, что эти кольца служат для поимки нематод — живущих в почве червей размером около миллиметра. Почувствовав рядом с собой присутствие нема­тод, гриб срочно изготавливает своё «лассо», а также клейкие пузырьки, к которым прилипают неосторожные черви. После этого гриб разрастается в теле червя, оставляя от него пустую кожиц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грибов-«охотников» можно бороться с нематодами, снижающими урожай овощ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 каком виде вы хотели бы представить результаты своего труд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тавка в своём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тавка в шк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тавка для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хочу показывать своё изделие ник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ламный бук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работы над проекто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мостоятельная исследовательская работа учащихся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в течение трех месяце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нализ данных, формулирование выводов, оформление работы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проводится учащимися самостоятельно во внеурочное время с представлением промежуточных результатов для проверки – в течение трех урок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ка отчета о проделанной работе в виде презентаци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внеурочно, консультирование один урок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щита работы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два урок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елаю творческих успехов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6:53:04Z</dcterms:created>
  <dc:creator>07082</dc:creator>
  <dc:description/>
  <dc:language>en-US</dc:language>
  <cp:lastModifiedBy>07082</cp:lastModifiedBy>
  <dcterms:modified xsi:type="dcterms:W3CDTF">2009-11-09T08:05:41Z</dcterms:modified>
  <cp:revision>6</cp:revision>
  <dc:subject/>
  <dc:title>Грибы- отдельное царство организмов.</dc:title>
</cp:coreProperties>
</file>